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9988-855C-4F62-BB5B-2E63FDAAE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6437-9558-4A09-B8D8-01100EA5E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7533-447F-40E3-A76F-0C8B0E62B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2C5C-7888-4ED1-B276-B3B559AEF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259A-EA98-42F4-A032-DD19DF94BA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4A4A-8C83-461D-88E3-7536FB0D74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042A-51E3-46A6-B0EA-1379829D34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A4C9-BBC9-4D7A-9D86-4BC179A25A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B558-8E94-41A2-9399-D427F9B7E6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1541-B0B3-477E-AD9F-29DFC70038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2764-818A-46A8-880B-0881BAA591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F276-89DE-4EC8-B821-741BB929CA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EFC6-4494-48B6-B89B-C628094323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9A04-04C7-4544-9BD2-FC1B3280DCD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EFE1C-73B8-4228-AEF8-785C61BF8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0909-1054-41E2-B22A-D8521774F2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DFC41-8ADE-4FF3-990C-B0FAB8C87A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EFA28-47B9-47FA-9002-1431610059B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86DB8-7729-4185-B56A-7CFDE84D7B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8494B-ECC8-42E3-AC71-45064C28A3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86D33-778F-4342-95C9-DEFCB87D83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13C07-DA32-4CC6-A4FF-5753EE3884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37850-38A9-412C-8593-00277D137D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9625E-DD8C-409C-B825-489A8563AB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6A9C9-8153-4D24-A351-8C34B44EDE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97262-DC3E-48CC-AFDF-D54BC7E32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64BC-AE98-43ED-92E6-129BB4BC535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9D5A3-6E69-4CE8-85CB-E98F2F9C977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F74EF-B99C-48E2-BE74-758ED70F9C5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6AB69-26D3-466E-99FC-827F25AE7C5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CF31F-BA3D-40AE-87B7-7AD54EF6A4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C45DE-6ACE-4530-A7F5-C84C501F354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19199-7AC9-4B25-BE0F-FAC7750CC2A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39295-A6AE-4A0C-A33D-8832CAC7138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023D2-4C8C-4F02-977B-89EA5012A7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E851E-21E1-4770-A618-6C76B154FC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4DFE4-F3EE-494C-9E73-88269AA4B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4F73-D931-4B16-8D1E-99CB50F1F8B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765D5-6D66-498A-86A4-FB0D88331A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9A183-B5F7-42B5-B9FD-9154D61D0C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9649F-E61C-4C03-A8EB-42494CC64D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0DE0-33AF-4599-85AD-42F3D041DF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C544-DA18-410E-A027-0F342A19FC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A541-5ED6-441A-8C9B-385A1F03955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72CF-C6F2-4C7D-8255-4014BC3F670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1615-6B31-4F06-89B2-A4B8174460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3D931-2026-425F-B916-72FDA671A6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B2CD-768A-48A7-A88B-41A0CC2FE8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059E-86F9-4E16-ACEF-81B4C1F4BB0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6944-C97B-4979-AE46-C57E0C6F40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60F7-D955-40E6-8AE9-0C276962F1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0A36-8169-488E-B488-519FEBF6A4A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6D33-0F2C-46DC-BB7B-A12E792A6BB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2D5F0-7600-4B33-B29F-1BA210718E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26DA-C22B-4016-8649-5112B273E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1965-58AC-479A-AE5B-7CA848C4EC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4B4D-38C8-4F9F-8EC9-8B691C2D5E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F92C-456A-457C-815D-36C922D772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F92A-E574-40CE-B437-DBA0CA2AB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49A1-A6CE-4C9A-BDA3-BE23C756A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15C8-2E5C-49F4-9384-15DC97280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B9DD-FF61-428E-B2CF-505081572D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3F36-7C13-4B5D-A8C5-7414F8735B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D9D1-3DEE-476A-9A82-885A125EC5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11B7-7AAD-47DD-98B5-5086710F1F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32B-0CB9-4AF4-AF22-89F31047BE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F9B-3CCE-467B-A43D-451B731F2E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81E-2149-4129-840A-160AA309E8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3AA-E9DC-4E24-A8C5-7733E8DA8E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A56-CE22-4122-9E54-6278CB650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77F6-8182-4450-A9F6-F9D814DE4A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9E7-E4A9-49A6-96FA-D2BE40502E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EE0-3E12-4311-92A6-A189E8DCB7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4A9-8456-441C-B5EC-487195F267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FC9-168B-4605-8BF1-22719D7175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3AB-DF93-4BAB-84DA-ADBAD52B78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9FD-8D37-4EEE-B4B4-F5C4CC3CF5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C16-8750-454D-BD45-9BACBD6C9E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C8E8D-FF2C-489D-A43C-7D7A22C445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57712-4FAE-41B2-A14E-3FF1771AE8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4B783-F6D6-45CA-87EE-806FFCB71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FC42-B33C-4036-9006-1AFA718D56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603ED-BF6B-4831-83A8-A9FECCF018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6256F-FC33-4797-8A85-B4C9BD6A2B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73A5D-F732-43F1-B01C-7E6B5089D3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BD3A9-3E6C-4DF9-A2EF-74A5F60215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B8B5F-77EA-421D-B9E1-B4CB9803C2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8619F-DEE1-49A3-94BE-75F7A6F8D7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BF681-3847-4E01-BF4C-3526DFDE7C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54F4E-AAD0-4599-9B3F-DB138CB157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5D764-EDC0-47B3-8B65-E1733B5A0E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E96B1-0515-4129-8EDD-F2774BA1F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D27F-8164-405F-B5BA-BDFDE1E8E4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9626-1D27-42B7-BF26-F534ADF67D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331A-CFD2-4543-A512-7DFB569D0E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C477F-06FB-4C1A-BBB9-79E19D729F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FFB1C-986F-4ABF-B662-C0CE4F4BC10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B3E94-40D9-41AA-9A95-3593EC3385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0778C-6622-4E38-A7AA-FAC5D0BD60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34215-B7DA-4D5D-AA30-A2FBE849F6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DE669-424E-4AA6-AB42-2BABB6BC39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ED1E9-7D9A-4922-AB1D-DF76A924A3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ABC76-AD3A-49F0-B469-E4D11EF05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73B8-F87E-481B-BF4A-A7972D31D5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3F7FA-D25C-4D74-A1E2-CB8669B5EC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ED5-8FB5-4548-B654-3CB002F8DB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A904-3E6D-4140-8104-A5FDB58FABF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8CFD-1208-4143-B37F-1762EA4FCB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B4F4-BC5C-4732-8AFB-8C3350AC16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4D43-AC59-4C49-880D-8ECA7F43BB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13D0-D9E9-462C-A709-2D53BB9DC8C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A6F2-B2C6-4543-97A2-6C78E8C660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9CBE-A17A-4208-A32D-862969B4F8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E02E-32E1-451B-8B8F-1B2BB886D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5C98-45F0-48C3-8FF7-36743C1C51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64B-B0FE-4003-AE99-218C5EBF24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91B3-6E51-424C-A89F-10F8004790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4E42-312E-47C1-803A-DD5F185A3F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0C7AB-7502-4F4D-BBC3-A51AF35FF3A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819965-4CE0-44FF-9311-6F2F4D51D44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22406-C201-4464-BE70-1A076BCB07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06ACE-E670-4086-93E0-1BD42107C3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74EA6-9260-4441-9D9D-82E9864890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92C06-DC1C-450D-A037-20E8AFFAD3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A077F-03F7-4A6C-BA0E-74FE3447B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67D5-D55B-494C-BEAE-93569AAD06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F9986-9BE8-4CEF-A6AF-C8C1E1387BF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0E2367-BAB8-42C5-9EC6-B62E891635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51433-6E67-4FA8-B475-F26E63CEF1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A65E9-F879-4106-B18A-966B09C9D8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03A06-BCFF-4F77-B270-8838D86DBF7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828DD-DBF8-49EF-B758-2431E904C3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1C673-8560-40B8-B9D7-DDE62DE900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E7C20-976E-4BB0-8E34-E42D4CAA08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39D24-0502-4360-9FF8-459875012F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F24A6-39C1-48B1-B3FC-553E13374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1508-2016-4DD8-8919-994B717BACD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74C24-AD27-43DD-8C5B-66D5DCB0B0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FA468-8210-4EBB-B257-25440F5CFC5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CF83D-747E-483C-80CD-FDEBA6F283D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7D956-6D39-4673-8A0B-3DAB17CE398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507DF-818E-4CBF-9838-2501358872A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71C39-BA6B-4B22-9281-E8BAC96682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E46E0-FD1C-4528-9C49-C5DA83DE36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FE98-5BE9-4CDE-BB29-5DFE4E4929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7177-2899-4562-93AC-EED046AFBD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5067-E9E6-4D90-86B5-075492CFA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877D-5D50-4AFC-966C-844FAE06B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eos_logo"/>
          <p:cNvPicPr/>
          <p:nvPr/>
        </p:nvPicPr>
        <p:blipFill>
          <a:blip r:embed="rId4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D7BD-882B-441B-941D-581476998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1156-A9B2-46DA-AA3D-21B1A36DC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2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CF6-DF4E-434A-80E4-738A0CA03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F62-111C-4342-AB90-03D7978EE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A219-CDFD-47E0-A13E-AD28FA41B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28FA-FAA2-4AF7-AEF6-288C021C6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F19-B049-43EE-8F76-69315D948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E23-1632-4F3C-8330-5809C19B9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285C-E001-4DBA-A0BE-98CA64085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F03C-60D0-42DD-99CD-FFAAE66DF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93E6-B791-4620-8099-228EF18C0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png"/><Relationship Id="rId10" Type="http://schemas.openxmlformats.org/officeDocument/2006/relationships/image" Target="../media/image18.png"/><Relationship Id="rId11" Type="http://schemas.openxmlformats.org/officeDocument/2006/relationships/image" Target="../media/image12.png"/><Relationship Id="rId12" Type="http://schemas.openxmlformats.org/officeDocument/2006/relationships/image" Target="../media/image1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29A7-AF3D-478B-A688-6B0E0137FC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Arial"/>
              </a:rPr>
              <a:t>The CEOS WGISS</a:t>
            </a:r>
            <a:br>
              <a:rPr sz="2800"/>
            </a:br>
            <a:r>
              <a:rPr b="1" lang="en-US" sz="2800" spc="-1" strike="noStrike">
                <a:solidFill>
                  <a:srgbClr val="184b81"/>
                </a:solidFill>
                <a:latin typeface="Arial"/>
              </a:rPr>
              <a:t>Atmospheric Composition Portal</a:t>
            </a:r>
            <a:endParaRPr b="1" lang="en-US" sz="2800" spc="-1" strike="noStrike">
              <a:solidFill>
                <a:srgbClr val="184b8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BB00-E065-4CAA-A4E3-F302CE6E7B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36600" y="21384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AC Portal</a:t>
            </a:r>
            <a:br>
              <a:rPr sz="3200"/>
            </a:b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Mission Statemen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99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vide access, tools, and contextual guidance to scientists and value-adding organizations in using remotely sensed atmospheric composition data, information, and servic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elp foster interoperability and application of atmospheric composition data, information and services worldwid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dentify the unique requirements and common (shared) features of the ACC and GEOSS users to provide a value-added and complementary capabilit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k with partners in CEOS and the broader AC community in advancing the AC Port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6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2"/>
          <p:cNvSpPr/>
          <p:nvPr/>
        </p:nvSpPr>
        <p:spPr>
          <a:xfrm>
            <a:off x="708660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33B7-2987-4CAF-A6F8-55D5CC7795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95280" y="192240"/>
            <a:ext cx="7664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Initial Capability</a:t>
            </a:r>
            <a:br>
              <a:rPr sz="3200"/>
            </a:b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Data and Service Flow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0" name="TextBox 34"/>
          <p:cNvSpPr/>
          <p:nvPr/>
        </p:nvSpPr>
        <p:spPr>
          <a:xfrm>
            <a:off x="378720" y="137160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 of AC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5"/>
          <p:cNvSpPr/>
          <p:nvPr/>
        </p:nvSpPr>
        <p:spPr>
          <a:xfrm>
            <a:off x="380880" y="1752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’ release: wdc.dlr.de/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581832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7" descr=""/>
          <p:cNvPicPr/>
          <p:nvPr/>
        </p:nvPicPr>
        <p:blipFill>
          <a:blip r:embed="rId1"/>
          <a:stretch/>
        </p:blipFill>
        <p:spPr>
          <a:xfrm>
            <a:off x="361476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358128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"/>
          <p:cNvPicPr/>
          <p:nvPr/>
        </p:nvPicPr>
        <p:blipFill>
          <a:blip r:embed="rId3"/>
          <a:stretch/>
        </p:blipFill>
        <p:spPr>
          <a:xfrm>
            <a:off x="3846600" y="5211720"/>
            <a:ext cx="744480" cy="6033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49"/>
          <p:cNvSpPr/>
          <p:nvPr/>
        </p:nvSpPr>
        <p:spPr>
          <a:xfrm>
            <a:off x="371052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0"/>
          <p:cNvSpPr/>
          <p:nvPr/>
        </p:nvSpPr>
        <p:spPr>
          <a:xfrm>
            <a:off x="3874680" y="5364000"/>
            <a:ext cx="5814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S DI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1"/>
          <p:cNvSpPr/>
          <p:nvPr/>
        </p:nvSpPr>
        <p:spPr>
          <a:xfrm>
            <a:off x="366444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4648320" y="48769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4"/>
          <a:stretch/>
        </p:blipFill>
        <p:spPr>
          <a:xfrm>
            <a:off x="6397560" y="2438280"/>
            <a:ext cx="1656000" cy="1330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7" descr=""/>
          <p:cNvPicPr/>
          <p:nvPr/>
        </p:nvPicPr>
        <p:blipFill>
          <a:blip r:embed="rId5"/>
          <a:srcRect l="0" t="11168" r="0" b="0"/>
          <a:stretch/>
        </p:blipFill>
        <p:spPr>
          <a:xfrm>
            <a:off x="5730840" y="4923000"/>
            <a:ext cx="685800" cy="4982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2"/>
          <p:cNvSpPr/>
          <p:nvPr/>
        </p:nvSpPr>
        <p:spPr>
          <a:xfrm>
            <a:off x="586008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0" descr=""/>
          <p:cNvPicPr/>
          <p:nvPr/>
        </p:nvPicPr>
        <p:blipFill>
          <a:blip r:embed="rId6"/>
          <a:stretch/>
        </p:blipFill>
        <p:spPr>
          <a:xfrm>
            <a:off x="7669080" y="4956120"/>
            <a:ext cx="749520" cy="596880"/>
          </a:xfrm>
          <a:prstGeom prst="rect">
            <a:avLst/>
          </a:prstGeom>
          <a:ln w="0">
            <a:noFill/>
          </a:ln>
        </p:spPr>
      </p:pic>
      <p:sp>
        <p:nvSpPr>
          <p:cNvPr id="544" name="TextBox 71"/>
          <p:cNvSpPr/>
          <p:nvPr/>
        </p:nvSpPr>
        <p:spPr>
          <a:xfrm>
            <a:off x="7701480" y="510552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75"/>
          <p:cNvSpPr/>
          <p:nvPr/>
        </p:nvSpPr>
        <p:spPr>
          <a:xfrm>
            <a:off x="3429000" y="4648320"/>
            <a:ext cx="1752480" cy="18288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76"/>
          <p:cNvSpPr/>
          <p:nvPr/>
        </p:nvSpPr>
        <p:spPr>
          <a:xfrm>
            <a:off x="5410080" y="4724280"/>
            <a:ext cx="1524240" cy="18288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15">
                <a:moveTo>
                  <a:pt x="3600" y="0"/>
                </a:moveTo>
                <a:arcTo wR="3600" hR="3600" stAng="16200000" swAng="-5400000"/>
                <a:lnTo>
                  <a:pt x="0" y="22315"/>
                </a:lnTo>
                <a:arcTo wR="3600" hR="3600" stAng="10800000" swAng="-5400000"/>
                <a:lnTo>
                  <a:pt x="18000" y="25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77"/>
          <p:cNvSpPr/>
          <p:nvPr/>
        </p:nvSpPr>
        <p:spPr>
          <a:xfrm>
            <a:off x="731520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8"/>
          <p:cNvSpPr/>
          <p:nvPr/>
        </p:nvSpPr>
        <p:spPr>
          <a:xfrm>
            <a:off x="374976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9"/>
          <p:cNvSpPr/>
          <p:nvPr/>
        </p:nvSpPr>
        <p:spPr>
          <a:xfrm>
            <a:off x="564408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0"/>
          <p:cNvSpPr/>
          <p:nvPr/>
        </p:nvSpPr>
        <p:spPr>
          <a:xfrm>
            <a:off x="715392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Shape 83"/>
          <p:cNvCxnSpPr>
            <a:stCxn id="548" idx="0"/>
          </p:cNvCxnSpPr>
          <p:nvPr/>
        </p:nvCxnSpPr>
        <p:spPr>
          <a:xfrm flipH="1" flipV="1" rot="5400000">
            <a:off x="5484600" y="2773080"/>
            <a:ext cx="259200" cy="263736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552" name="Shape 85"/>
          <p:cNvCxnSpPr>
            <a:stCxn id="548" idx="0"/>
          </p:cNvCxnSpPr>
          <p:nvPr/>
        </p:nvCxnSpPr>
        <p:spPr>
          <a:xfrm flipH="1" flipV="1" rot="5400000">
            <a:off x="5535360" y="2528640"/>
            <a:ext cx="452880" cy="2932560"/>
          </a:xfrm>
          <a:prstGeom prst="curvedConnector5">
            <a:avLst>
              <a:gd name="adj1" fmla="val 49960"/>
              <a:gd name="adj2" fmla="val 49993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hape 86"/>
          <p:cNvCxnSpPr>
            <a:stCxn id="549" idx="0"/>
          </p:cNvCxnSpPr>
          <p:nvPr/>
        </p:nvCxnSpPr>
        <p:spPr>
          <a:xfrm flipH="1" flipV="1" rot="5400000">
            <a:off x="6465600" y="3504960"/>
            <a:ext cx="498960" cy="1026000"/>
          </a:xfrm>
          <a:prstGeom prst="curvedConnector5">
            <a:avLst>
              <a:gd name="adj1" fmla="val 49963"/>
              <a:gd name="adj2" fmla="val 49982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hape 88"/>
          <p:cNvCxnSpPr>
            <a:stCxn id="550" idx="0"/>
          </p:cNvCxnSpPr>
          <p:nvPr/>
        </p:nvCxnSpPr>
        <p:spPr>
          <a:xfrm flipV="1" rot="16200000">
            <a:off x="7353000" y="3642840"/>
            <a:ext cx="514440" cy="7660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116"/>
          <p:cNvCxnSpPr/>
          <p:nvPr/>
        </p:nvCxnSpPr>
        <p:spPr>
          <a:xfrm>
            <a:off x="578808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556" name="Rounded Rectangle 121"/>
          <p:cNvSpPr/>
          <p:nvPr/>
        </p:nvSpPr>
        <p:spPr>
          <a:xfrm>
            <a:off x="624852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Curved Connector 123"/>
          <p:cNvCxnSpPr>
            <a:stCxn id="556" idx="2"/>
          </p:cNvCxnSpPr>
          <p:nvPr/>
        </p:nvCxnSpPr>
        <p:spPr>
          <a:xfrm rot="5400000">
            <a:off x="7308360" y="2126880"/>
            <a:ext cx="229320" cy="394560"/>
          </a:xfrm>
          <a:prstGeom prst="curvedConnector5">
            <a:avLst>
              <a:gd name="adj1" fmla="val 50000"/>
              <a:gd name="adj2" fmla="val 4995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8" name="Picture 47" descr=""/>
          <p:cNvPicPr/>
          <p:nvPr/>
        </p:nvPicPr>
        <p:blipFill>
          <a:blip r:embed="rId7"/>
          <a:srcRect l="11239" t="10006" r="14997" b="4025"/>
          <a:stretch/>
        </p:blipFill>
        <p:spPr>
          <a:xfrm>
            <a:off x="7794720" y="1608120"/>
            <a:ext cx="76176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9" name="TextBox 127"/>
          <p:cNvSpPr/>
          <p:nvPr/>
        </p:nvSpPr>
        <p:spPr>
          <a:xfrm>
            <a:off x="805140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78"/>
          <p:cNvSpPr/>
          <p:nvPr/>
        </p:nvSpPr>
        <p:spPr>
          <a:xfrm>
            <a:off x="671400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27"/>
          <p:cNvSpPr/>
          <p:nvPr/>
        </p:nvSpPr>
        <p:spPr>
          <a:xfrm>
            <a:off x="7924680" y="3352680"/>
            <a:ext cx="9558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Portal Site at 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0"/>
          <p:cNvSpPr/>
          <p:nvPr/>
        </p:nvSpPr>
        <p:spPr>
          <a:xfrm>
            <a:off x="4648320" y="571500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8"/>
          <a:srcRect l="3768" t="10037" r="5633" b="5985"/>
          <a:stretch/>
        </p:blipFill>
        <p:spPr>
          <a:xfrm>
            <a:off x="6477120" y="1614600"/>
            <a:ext cx="838080" cy="48564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sp>
        <p:nvSpPr>
          <p:cNvPr id="564" name="TextBox 127"/>
          <p:cNvSpPr/>
          <p:nvPr/>
        </p:nvSpPr>
        <p:spPr>
          <a:xfrm>
            <a:off x="6607080" y="1828800"/>
            <a:ext cx="10890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7" descr=""/>
          <p:cNvPicPr/>
          <p:nvPr/>
        </p:nvPicPr>
        <p:blipFill>
          <a:blip r:embed="rId9"/>
          <a:stretch/>
        </p:blipFill>
        <p:spPr>
          <a:xfrm>
            <a:off x="7808760" y="5748480"/>
            <a:ext cx="744840" cy="5428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51"/>
          <p:cNvSpPr/>
          <p:nvPr/>
        </p:nvSpPr>
        <p:spPr>
          <a:xfrm>
            <a:off x="7855560" y="59436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6" descr=""/>
          <p:cNvPicPr/>
          <p:nvPr/>
        </p:nvPicPr>
        <p:blipFill>
          <a:blip r:embed="rId10"/>
          <a:stretch/>
        </p:blipFill>
        <p:spPr>
          <a:xfrm>
            <a:off x="4267080" y="2517840"/>
            <a:ext cx="1295640" cy="12780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07"/>
          <p:cNvSpPr/>
          <p:nvPr/>
        </p:nvSpPr>
        <p:spPr>
          <a:xfrm>
            <a:off x="4434480" y="2286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ight Arrow 108"/>
          <p:cNvSpPr/>
          <p:nvPr/>
        </p:nvSpPr>
        <p:spPr>
          <a:xfrm>
            <a:off x="5562720" y="291312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ight Arrow 109"/>
          <p:cNvSpPr/>
          <p:nvPr/>
        </p:nvSpPr>
        <p:spPr>
          <a:xfrm rot="10800000">
            <a:off x="5486040" y="32176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5"/>
          <p:cNvSpPr/>
          <p:nvPr/>
        </p:nvSpPr>
        <p:spPr>
          <a:xfrm>
            <a:off x="0" y="2916360"/>
            <a:ext cx="3575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through standards implementation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ing map legends and parameter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monization of metadata records, e.g., how to handle multiple coverages in a W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practices in distributed access, processing and visualiz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with GEOSS Common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Future AC Portal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3" name="TextBox 43"/>
          <p:cNvSpPr/>
          <p:nvPr/>
        </p:nvSpPr>
        <p:spPr>
          <a:xfrm>
            <a:off x="3808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lans for AC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37040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217008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213372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2395440" y="5211720"/>
            <a:ext cx="749520" cy="603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9"/>
          <p:cNvSpPr/>
          <p:nvPr/>
        </p:nvSpPr>
        <p:spPr>
          <a:xfrm>
            <a:off x="226260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0"/>
          <p:cNvSpPr/>
          <p:nvPr/>
        </p:nvSpPr>
        <p:spPr>
          <a:xfrm>
            <a:off x="2427120" y="5364000"/>
            <a:ext cx="5814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S DI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1"/>
          <p:cNvSpPr/>
          <p:nvPr/>
        </p:nvSpPr>
        <p:spPr>
          <a:xfrm>
            <a:off x="221688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2"/>
          <p:cNvSpPr/>
          <p:nvPr/>
        </p:nvSpPr>
        <p:spPr>
          <a:xfrm>
            <a:off x="2438280" y="601992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3"/>
          <p:cNvSpPr/>
          <p:nvPr/>
        </p:nvSpPr>
        <p:spPr>
          <a:xfrm>
            <a:off x="2454120" y="6126120"/>
            <a:ext cx="5479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3200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3200400" y="5867280"/>
            <a:ext cx="27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4"/>
          <a:stretch/>
        </p:blipFill>
        <p:spPr>
          <a:xfrm>
            <a:off x="4950000" y="2438280"/>
            <a:ext cx="1655640" cy="13305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16"/>
          <p:cNvSpPr/>
          <p:nvPr/>
        </p:nvSpPr>
        <p:spPr>
          <a:xfrm>
            <a:off x="3352680" y="533412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PeND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7" descr=""/>
          <p:cNvPicPr/>
          <p:nvPr/>
        </p:nvPicPr>
        <p:blipFill>
          <a:blip r:embed="rId5"/>
          <a:stretch/>
        </p:blipFill>
        <p:spPr>
          <a:xfrm>
            <a:off x="4316400" y="5645160"/>
            <a:ext cx="743040" cy="536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7" descr=""/>
          <p:cNvPicPr/>
          <p:nvPr/>
        </p:nvPicPr>
        <p:blipFill>
          <a:blip r:embed="rId6"/>
          <a:srcRect l="0" t="11168" r="0" b="0"/>
          <a:stretch/>
        </p:blipFill>
        <p:spPr>
          <a:xfrm>
            <a:off x="428292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9" descr=""/>
          <p:cNvPicPr/>
          <p:nvPr/>
        </p:nvPicPr>
        <p:blipFill>
          <a:blip r:embed="rId7"/>
          <a:stretch/>
        </p:blipFill>
        <p:spPr>
          <a:xfrm>
            <a:off x="4548240" y="5261040"/>
            <a:ext cx="743040" cy="5968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2"/>
          <p:cNvSpPr/>
          <p:nvPr/>
        </p:nvSpPr>
        <p:spPr>
          <a:xfrm>
            <a:off x="441216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63"/>
          <p:cNvSpPr/>
          <p:nvPr/>
        </p:nvSpPr>
        <p:spPr>
          <a:xfrm>
            <a:off x="457704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4"/>
          <p:cNvSpPr/>
          <p:nvPr/>
        </p:nvSpPr>
        <p:spPr>
          <a:xfrm>
            <a:off x="436608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5"/>
          <p:cNvSpPr/>
          <p:nvPr/>
        </p:nvSpPr>
        <p:spPr>
          <a:xfrm>
            <a:off x="4587840" y="606600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6"/>
          <p:cNvSpPr/>
          <p:nvPr/>
        </p:nvSpPr>
        <p:spPr>
          <a:xfrm>
            <a:off x="460224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7" descr=""/>
          <p:cNvPicPr/>
          <p:nvPr/>
        </p:nvPicPr>
        <p:blipFill>
          <a:blip r:embed="rId8"/>
          <a:stretch/>
        </p:blipFill>
        <p:spPr>
          <a:xfrm>
            <a:off x="6145200" y="5645160"/>
            <a:ext cx="743040" cy="536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7" descr=""/>
          <p:cNvPicPr/>
          <p:nvPr/>
        </p:nvPicPr>
        <p:blipFill>
          <a:blip r:embed="rId9"/>
          <a:srcRect l="0" t="11168" r="0" b="0"/>
          <a:stretch/>
        </p:blipFill>
        <p:spPr>
          <a:xfrm>
            <a:off x="611172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7" descr=""/>
          <p:cNvPicPr/>
          <p:nvPr/>
        </p:nvPicPr>
        <p:blipFill>
          <a:blip r:embed="rId10"/>
          <a:stretch/>
        </p:blipFill>
        <p:spPr>
          <a:xfrm>
            <a:off x="6377040" y="5261040"/>
            <a:ext cx="743040" cy="596880"/>
          </a:xfrm>
          <a:prstGeom prst="rect">
            <a:avLst/>
          </a:prstGeom>
          <a:ln w="0">
            <a:noFill/>
          </a:ln>
        </p:spPr>
      </p:pic>
      <p:sp>
        <p:nvSpPr>
          <p:cNvPr id="598" name="TextBox 70"/>
          <p:cNvSpPr/>
          <p:nvPr/>
        </p:nvSpPr>
        <p:spPr>
          <a:xfrm>
            <a:off x="624096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71"/>
          <p:cNvSpPr/>
          <p:nvPr/>
        </p:nvSpPr>
        <p:spPr>
          <a:xfrm>
            <a:off x="640584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72"/>
          <p:cNvSpPr/>
          <p:nvPr/>
        </p:nvSpPr>
        <p:spPr>
          <a:xfrm>
            <a:off x="619488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3"/>
          <p:cNvSpPr/>
          <p:nvPr/>
        </p:nvSpPr>
        <p:spPr>
          <a:xfrm>
            <a:off x="6416640" y="606600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74"/>
          <p:cNvSpPr/>
          <p:nvPr/>
        </p:nvSpPr>
        <p:spPr>
          <a:xfrm>
            <a:off x="643104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ounded Rectangle 75"/>
          <p:cNvSpPr/>
          <p:nvPr/>
        </p:nvSpPr>
        <p:spPr>
          <a:xfrm>
            <a:off x="1981080" y="4648320"/>
            <a:ext cx="1752840" cy="182880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36">
                <a:moveTo>
                  <a:pt x="3600" y="0"/>
                </a:moveTo>
                <a:arcTo wR="3600" hR="3600" stAng="16200000" swAng="-5400000"/>
                <a:lnTo>
                  <a:pt x="0" y="18936"/>
                </a:lnTo>
                <a:arcTo wR="3600" hR="3600" stAng="10800000" swAng="-5400000"/>
                <a:lnTo>
                  <a:pt x="18000" y="22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ounded Rectangle 76"/>
          <p:cNvSpPr/>
          <p:nvPr/>
        </p:nvSpPr>
        <p:spPr>
          <a:xfrm>
            <a:off x="3962520" y="4724280"/>
            <a:ext cx="1523880" cy="18288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ounded Rectangle 77"/>
          <p:cNvSpPr/>
          <p:nvPr/>
        </p:nvSpPr>
        <p:spPr>
          <a:xfrm>
            <a:off x="586728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8"/>
          <p:cNvSpPr/>
          <p:nvPr/>
        </p:nvSpPr>
        <p:spPr>
          <a:xfrm>
            <a:off x="230184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9"/>
          <p:cNvSpPr/>
          <p:nvPr/>
        </p:nvSpPr>
        <p:spPr>
          <a:xfrm>
            <a:off x="419616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80"/>
          <p:cNvSpPr/>
          <p:nvPr/>
        </p:nvSpPr>
        <p:spPr>
          <a:xfrm>
            <a:off x="570600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hape 83"/>
          <p:cNvCxnSpPr>
            <a:stCxn id="606" idx="0"/>
          </p:cNvCxnSpPr>
          <p:nvPr/>
        </p:nvCxnSpPr>
        <p:spPr>
          <a:xfrm flipH="1" flipV="1" rot="5400000">
            <a:off x="4035960" y="2772720"/>
            <a:ext cx="259200" cy="263772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610" name="Shape 85"/>
          <p:cNvCxnSpPr>
            <a:stCxn id="606" idx="0"/>
          </p:cNvCxnSpPr>
          <p:nvPr/>
        </p:nvCxnSpPr>
        <p:spPr>
          <a:xfrm flipH="1" flipV="1" rot="5400000">
            <a:off x="4086720" y="2528280"/>
            <a:ext cx="452880" cy="29329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1" name="Shape 86"/>
          <p:cNvCxnSpPr>
            <a:stCxn id="607" idx="0"/>
          </p:cNvCxnSpPr>
          <p:nvPr/>
        </p:nvCxnSpPr>
        <p:spPr>
          <a:xfrm flipH="1" flipV="1" rot="5400000">
            <a:off x="5016960" y="3504600"/>
            <a:ext cx="498960" cy="102636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2" name="Shape 88"/>
          <p:cNvCxnSpPr>
            <a:stCxn id="608" idx="0"/>
          </p:cNvCxnSpPr>
          <p:nvPr/>
        </p:nvCxnSpPr>
        <p:spPr>
          <a:xfrm flipV="1" rot="16200000">
            <a:off x="5905080" y="3643200"/>
            <a:ext cx="514440" cy="765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3" name="Picture 46" descr=""/>
          <p:cNvPicPr/>
          <p:nvPr/>
        </p:nvPicPr>
        <p:blipFill>
          <a:blip r:embed="rId11"/>
          <a:stretch/>
        </p:blipFill>
        <p:spPr>
          <a:xfrm>
            <a:off x="2435400" y="2438280"/>
            <a:ext cx="1295280" cy="1278000"/>
          </a:xfrm>
          <a:prstGeom prst="rect">
            <a:avLst/>
          </a:prstGeom>
          <a:ln w="0">
            <a:noFill/>
          </a:ln>
        </p:spPr>
      </p:pic>
      <p:sp>
        <p:nvSpPr>
          <p:cNvPr id="614" name="TextBox 107"/>
          <p:cNvSpPr/>
          <p:nvPr/>
        </p:nvSpPr>
        <p:spPr>
          <a:xfrm>
            <a:off x="2602440" y="2206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ight Arrow 108"/>
          <p:cNvSpPr/>
          <p:nvPr/>
        </p:nvSpPr>
        <p:spPr>
          <a:xfrm>
            <a:off x="3959280" y="274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ight Arrow 109"/>
          <p:cNvSpPr/>
          <p:nvPr/>
        </p:nvSpPr>
        <p:spPr>
          <a:xfrm rot="10800000">
            <a:off x="3882600" y="30477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2"/>
          <a:stretch/>
        </p:blipFill>
        <p:spPr>
          <a:xfrm>
            <a:off x="3654360" y="1523880"/>
            <a:ext cx="614520" cy="3812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12"/>
          <p:cNvSpPr/>
          <p:nvPr/>
        </p:nvSpPr>
        <p:spPr>
          <a:xfrm>
            <a:off x="3045600" y="13716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114"/>
          <p:cNvCxnSpPr/>
          <p:nvPr/>
        </p:nvCxnSpPr>
        <p:spPr>
          <a:xfrm flipH="1">
            <a:off x="3653640" y="1980000"/>
            <a:ext cx="38196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Straight Arrow Connector 116"/>
          <p:cNvCxnSpPr/>
          <p:nvPr/>
        </p:nvCxnSpPr>
        <p:spPr>
          <a:xfrm>
            <a:off x="434016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21" name="Straight Arrow Connector 118"/>
          <p:cNvCxnSpPr/>
          <p:nvPr/>
        </p:nvCxnSpPr>
        <p:spPr>
          <a:xfrm>
            <a:off x="4193640" y="1990800"/>
            <a:ext cx="38196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Rounded Rectangle 121"/>
          <p:cNvSpPr/>
          <p:nvPr/>
        </p:nvSpPr>
        <p:spPr>
          <a:xfrm>
            <a:off x="510552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Curved Connector 123"/>
          <p:cNvCxnSpPr>
            <a:stCxn id="622" idx="2"/>
          </p:cNvCxnSpPr>
          <p:nvPr/>
        </p:nvCxnSpPr>
        <p:spPr>
          <a:xfrm rot="5400000">
            <a:off x="6012720" y="1974240"/>
            <a:ext cx="229320" cy="699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24" name="Picture 47" descr=""/>
          <p:cNvPicPr/>
          <p:nvPr/>
        </p:nvPicPr>
        <p:blipFill>
          <a:blip r:embed="rId13"/>
          <a:srcRect l="11239" t="10006" r="14997" b="4025"/>
          <a:stretch/>
        </p:blipFill>
        <p:spPr>
          <a:xfrm>
            <a:off x="6651720" y="1608120"/>
            <a:ext cx="76176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5" name="TextBox 127"/>
          <p:cNvSpPr/>
          <p:nvPr/>
        </p:nvSpPr>
        <p:spPr>
          <a:xfrm>
            <a:off x="690840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78"/>
          <p:cNvSpPr/>
          <p:nvPr/>
        </p:nvSpPr>
        <p:spPr>
          <a:xfrm>
            <a:off x="557100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7" descr=""/>
          <p:cNvPicPr/>
          <p:nvPr/>
        </p:nvPicPr>
        <p:blipFill>
          <a:blip r:embed="rId14"/>
          <a:srcRect l="3768" t="10037" r="5633" b="5985"/>
          <a:stretch/>
        </p:blipFill>
        <p:spPr>
          <a:xfrm>
            <a:off x="5257800" y="1614600"/>
            <a:ext cx="838080" cy="48564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sp>
        <p:nvSpPr>
          <p:cNvPr id="628" name="TextBox 127"/>
          <p:cNvSpPr/>
          <p:nvPr/>
        </p:nvSpPr>
        <p:spPr>
          <a:xfrm>
            <a:off x="5388120" y="1828800"/>
            <a:ext cx="10890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63"/>
          <p:cNvGrpSpPr/>
          <p:nvPr/>
        </p:nvGrpSpPr>
        <p:grpSpPr>
          <a:xfrm>
            <a:off x="2133720" y="5181480"/>
            <a:ext cx="6781680" cy="1524240"/>
            <a:chOff x="2133720" y="5181480"/>
            <a:chExt cx="6781680" cy="1524240"/>
          </a:xfrm>
        </p:grpSpPr>
        <p:sp>
          <p:nvSpPr>
            <p:cNvPr id="630" name="Oval 59"/>
            <p:cNvSpPr/>
            <p:nvPr/>
          </p:nvSpPr>
          <p:spPr>
            <a:xfrm>
              <a:off x="2133720" y="5867280"/>
              <a:ext cx="114300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60"/>
            <p:cNvSpPr/>
            <p:nvPr/>
          </p:nvSpPr>
          <p:spPr>
            <a:xfrm>
              <a:off x="4267080" y="5943600"/>
              <a:ext cx="114300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61"/>
            <p:cNvSpPr/>
            <p:nvPr/>
          </p:nvSpPr>
          <p:spPr>
            <a:xfrm>
              <a:off x="6096240" y="5867280"/>
              <a:ext cx="114300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62"/>
            <p:cNvSpPr/>
            <p:nvPr/>
          </p:nvSpPr>
          <p:spPr>
            <a:xfrm>
              <a:off x="7543800" y="5181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eek to connect with data and tools from ot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5:48:18Z</dcterms:created>
  <dc:creator>Stefan Falke</dc:creator>
  <dc:description/>
  <dc:language>en-US</dc:language>
  <cp:lastModifiedBy>Stefan Falke</cp:lastModifiedBy>
  <dcterms:modified xsi:type="dcterms:W3CDTF">2010-07-21T16:13:18Z</dcterms:modified>
  <cp:revision>2</cp:revision>
  <dc:subject/>
  <dc:title>The CEOS WGISS Atmospheric Composition Portal</dc:title>
</cp:coreProperties>
</file>